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6.pct" ContentType="image/x-pict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0.jpeg" ContentType="image/jpeg"/>
  <Override PartName="/ppt/media/image15.pct" ContentType="image/x-pict"/>
  <Override PartName="/ppt/media/image21.png" ContentType="image/png"/>
  <Override PartName="/ppt/media/image19.png" ContentType="image/png"/>
  <Override PartName="/ppt/media/image3.jpeg" ContentType="image/jpeg"/>
  <Override PartName="/ppt/media/image17.pct" ContentType="image/x-pict"/>
  <Override PartName="/ppt/media/image14.pct" ContentType="image/x-pict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3AA5-1C3A-4F73-B400-FC0C43C88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1D93-7F9F-4636-AA37-002245551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244B-74EB-4DA4-B75E-02F2CE45E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030-33FA-410D-9C2A-162DAB7D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68A-1EF1-4F49-AC8D-954593A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607-6D19-4DF0-8694-7CF2A593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14A-78C9-446F-BDD7-7F1A37B7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23CB-0CD0-4CE0-8920-23821EF7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AE96-6360-4743-99E5-C742C401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2E94-2B62-4A28-B7A2-14B1402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53AD-3E43-4796-90FB-DC50E78F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294-1D29-45D9-8BD6-85C46EC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99FE-04C2-45B8-80E0-65926041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4DD1-BC0A-4CF7-943E-67AF406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E18-E318-4E0A-8802-7ADB1C24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8CB8-3252-4291-8B59-6C8FDC22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23D2-E056-445B-942D-F54782A0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1C4B-DB44-48AE-9B58-91C1721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1544-3BA6-445D-8E61-212BBDE8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046C-E5E4-4B76-A1CA-85ACC3D7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642-A197-491E-AC9D-47579A2B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827-BFF3-47C7-8198-E285FC54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65F-FB64-42D3-8C9D-E49AB13F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620-6A1F-4D88-A98D-8D4E032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C4A-FB57-4C9B-9EFA-8088505A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5ED-D6DA-4289-828C-D0991742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912-C718-48FE-A22A-EEC4B38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AE46-036E-4D23-94AB-06B34F0EF88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8C40-184F-43B5-A7A6-ECCAF4ABA11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ectronicportfolios.org/digistory/howto.html" TargetMode="External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image" Target="../media/image17.pct"/><Relationship Id="rId4" Type="http://schemas.openxmlformats.org/officeDocument/2006/relationships/image" Target="../media/image17.pct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i.knowledge.net.nz/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5791320"/>
            <a:ext cx="9144000" cy="916920"/>
            <a:chOff x="0" y="5791320"/>
            <a:chExt cx="9144000" cy="916920"/>
          </a:xfrm>
        </p:grpSpPr>
        <p:sp>
          <p:nvSpPr>
            <p:cNvPr id="90" name=""/>
            <p:cNvSpPr/>
            <p:nvPr/>
          </p:nvSpPr>
          <p:spPr>
            <a:xfrm>
              <a:off x="0" y="5791320"/>
              <a:ext cx="914400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791320"/>
              <a:ext cx="4038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6da4"/>
                  </a:solidFill>
                  <a:latin typeface="Arial"/>
                </a:rPr>
                <a:t>learning@schoo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6629400" y="5791320"/>
              <a:ext cx="137160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6324840"/>
              <a:ext cx="4191120" cy="380880"/>
            </a:xfrm>
            <a:prstGeom prst="rect">
              <a:avLst/>
            </a:prstGeom>
            <a:solidFill>
              <a:srgbClr val="5e6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116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292e"/>
                  </a:solidFill>
                  <a:latin typeface="Arial"/>
                </a:rPr>
                <a:t>Shaping teaching and learning in the 21st centu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6369120"/>
              <a:ext cx="2362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6da4"/>
                  </a:solidFill>
                  <a:latin typeface="Arial"/>
                </a:rPr>
                <a:t>Ko te whenu hou te ta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0" y="457200"/>
            <a:ext cx="9144000" cy="3537720"/>
            <a:chOff x="0" y="457200"/>
            <a:chExt cx="9144000" cy="3537720"/>
          </a:xfrm>
        </p:grpSpPr>
        <p:grpSp>
          <p:nvGrpSpPr>
            <p:cNvPr id="97" name=""/>
            <p:cNvGrpSpPr/>
            <p:nvPr/>
          </p:nvGrpSpPr>
          <p:grpSpPr>
            <a:xfrm>
              <a:off x="0" y="457200"/>
              <a:ext cx="9144000" cy="1747800"/>
              <a:chOff x="0" y="457200"/>
              <a:chExt cx="9144000" cy="1747800"/>
            </a:xfrm>
          </p:grpSpPr>
          <p:pic>
            <p:nvPicPr>
              <p:cNvPr id="98" name="" descr=""/>
              <p:cNvPicPr/>
              <p:nvPr/>
            </p:nvPicPr>
            <p:blipFill>
              <a:blip r:embed="rId3">
                <a:lum bright="18000"/>
              </a:blip>
              <a:stretch/>
            </p:blipFill>
            <p:spPr>
              <a:xfrm>
                <a:off x="4419720" y="480960"/>
                <a:ext cx="243828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4">
                <a:lum bright="12000"/>
              </a:blip>
              <a:stretch/>
            </p:blipFill>
            <p:spPr>
              <a:xfrm>
                <a:off x="2209680" y="480960"/>
                <a:ext cx="2438640" cy="172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>
                <a:lum bright="18000"/>
              </a:blip>
              <a:stretch/>
            </p:blipFill>
            <p:spPr>
              <a:xfrm>
                <a:off x="0" y="457200"/>
                <a:ext cx="2438280" cy="174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>
                <a:lum bright="18000"/>
              </a:blip>
              <a:srcRect l="0" t="0" r="6247" b="0"/>
              <a:stretch/>
            </p:blipFill>
            <p:spPr>
              <a:xfrm>
                <a:off x="6858000" y="460080"/>
                <a:ext cx="2286000" cy="174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2438280" y="3048120"/>
              <a:ext cx="4191120" cy="946800"/>
              <a:chOff x="2438280" y="3048120"/>
              <a:chExt cx="4191120" cy="946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514600" y="3048120"/>
                <a:ext cx="403848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d8d8d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Arial"/>
                  </a:rPr>
                  <a:t>learning@school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657600"/>
                <a:ext cx="419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292e"/>
                    </a:solidFill>
                    <a:latin typeface="Arial"/>
                  </a:rPr>
                  <a:t>Rotorua New Zealand February 2008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5880"/>
            <a:ext cx="70866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imes New Roman"/>
              </a:rPr>
              <a:t>LEARNING TO LEARN PORTFOLIO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1" lang="en-AU" sz="1200" spc="-1" strike="noStrike">
                <a:solidFill>
                  <a:srgbClr val="ffff00"/>
                </a:solidFill>
                <a:latin typeface="Comic Sans MS"/>
              </a:rPr>
              <a:t>Ian F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1095480"/>
            <a:ext cx="4267080" cy="4267080"/>
          </a:xfrm>
          <a:prstGeom prst="ellipse">
            <a:avLst/>
          </a:prstGeom>
          <a:solidFill>
            <a:srgbClr val="22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19520" y="1295280"/>
            <a:ext cx="1460160" cy="1536480"/>
            <a:chOff x="2819520" y="1295280"/>
            <a:chExt cx="1460160" cy="1536480"/>
          </a:xfrm>
        </p:grpSpPr>
        <p:sp>
          <p:nvSpPr>
            <p:cNvPr id="139" name=""/>
            <p:cNvSpPr/>
            <p:nvPr/>
          </p:nvSpPr>
          <p:spPr>
            <a:xfrm>
              <a:off x="2819520" y="1295280"/>
              <a:ext cx="1460160" cy="1536480"/>
            </a:xfrm>
            <a:custGeom>
              <a:avLst/>
              <a:gdLst/>
              <a:ahLst/>
              <a:rect l="l" t="t" r="r" b="b"/>
              <a:pathLst>
                <a:path w="920" h="968">
                  <a:moveTo>
                    <a:pt x="656" y="0"/>
                  </a:moveTo>
                  <a:lnTo>
                    <a:pt x="592" y="16"/>
                  </a:lnTo>
                  <a:lnTo>
                    <a:pt x="528" y="40"/>
                  </a:lnTo>
                  <a:lnTo>
                    <a:pt x="408" y="104"/>
                  </a:lnTo>
                  <a:lnTo>
                    <a:pt x="296" y="192"/>
                  </a:lnTo>
                  <a:lnTo>
                    <a:pt x="200" y="288"/>
                  </a:lnTo>
                  <a:lnTo>
                    <a:pt x="56" y="456"/>
                  </a:lnTo>
                  <a:lnTo>
                    <a:pt x="0" y="536"/>
                  </a:lnTo>
                  <a:lnTo>
                    <a:pt x="712" y="968"/>
                  </a:lnTo>
                  <a:lnTo>
                    <a:pt x="848" y="832"/>
                  </a:lnTo>
                  <a:lnTo>
                    <a:pt x="784" y="808"/>
                  </a:lnTo>
                  <a:lnTo>
                    <a:pt x="776" y="808"/>
                  </a:lnTo>
                  <a:lnTo>
                    <a:pt x="920" y="7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7320" y="17906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REFLE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86200" y="990720"/>
            <a:ext cx="1447920" cy="1752480"/>
            <a:chOff x="3886200" y="990720"/>
            <a:chExt cx="1447920" cy="1752480"/>
          </a:xfrm>
        </p:grpSpPr>
        <p:sp>
          <p:nvSpPr>
            <p:cNvPr id="142" name=""/>
            <p:cNvSpPr/>
            <p:nvPr/>
          </p:nvSpPr>
          <p:spPr>
            <a:xfrm>
              <a:off x="3886200" y="990720"/>
              <a:ext cx="1447920" cy="1752480"/>
            </a:xfrm>
            <a:custGeom>
              <a:avLst/>
              <a:gdLst/>
              <a:ahLst/>
              <a:rect l="l" t="t" r="r" b="b"/>
              <a:pathLst>
                <a:path w="912" h="1104">
                  <a:moveTo>
                    <a:pt x="0" y="48"/>
                  </a:moveTo>
                  <a:lnTo>
                    <a:pt x="272" y="960"/>
                  </a:lnTo>
                  <a:lnTo>
                    <a:pt x="168" y="1016"/>
                  </a:lnTo>
                  <a:lnTo>
                    <a:pt x="432" y="1104"/>
                  </a:lnTo>
                  <a:lnTo>
                    <a:pt x="696" y="1016"/>
                  </a:lnTo>
                  <a:lnTo>
                    <a:pt x="592" y="960"/>
                  </a:lnTo>
                  <a:lnTo>
                    <a:pt x="912" y="64"/>
                  </a:lnTo>
                  <a:lnTo>
                    <a:pt x="632" y="16"/>
                  </a:lnTo>
                  <a:lnTo>
                    <a:pt x="448" y="0"/>
                  </a:lnTo>
                  <a:lnTo>
                    <a:pt x="264" y="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11760" y="11430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MODELS FOR LEARN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940280" y="1324080"/>
            <a:ext cx="1460520" cy="1511280"/>
            <a:chOff x="4940280" y="1324080"/>
            <a:chExt cx="1460520" cy="1511280"/>
          </a:xfrm>
        </p:grpSpPr>
        <p:sp>
          <p:nvSpPr>
            <p:cNvPr id="145" name=""/>
            <p:cNvSpPr/>
            <p:nvPr/>
          </p:nvSpPr>
          <p:spPr>
            <a:xfrm>
              <a:off x="4940280" y="1324080"/>
              <a:ext cx="1434960" cy="1511280"/>
            </a:xfrm>
            <a:custGeom>
              <a:avLst/>
              <a:gdLst/>
              <a:ahLst/>
              <a:rect l="l" t="t" r="r" b="b"/>
              <a:pathLst>
                <a:path w="904" h="952">
                  <a:moveTo>
                    <a:pt x="280" y="0"/>
                  </a:moveTo>
                  <a:lnTo>
                    <a:pt x="400" y="40"/>
                  </a:lnTo>
                  <a:lnTo>
                    <a:pt x="456" y="72"/>
                  </a:lnTo>
                  <a:lnTo>
                    <a:pt x="512" y="112"/>
                  </a:lnTo>
                  <a:lnTo>
                    <a:pt x="616" y="200"/>
                  </a:lnTo>
                  <a:lnTo>
                    <a:pt x="712" y="296"/>
                  </a:lnTo>
                  <a:lnTo>
                    <a:pt x="848" y="464"/>
                  </a:lnTo>
                  <a:lnTo>
                    <a:pt x="904" y="536"/>
                  </a:lnTo>
                  <a:lnTo>
                    <a:pt x="192" y="952"/>
                  </a:lnTo>
                  <a:lnTo>
                    <a:pt x="56" y="816"/>
                  </a:lnTo>
                  <a:lnTo>
                    <a:pt x="128" y="792"/>
                  </a:lnTo>
                  <a:lnTo>
                    <a:pt x="144" y="800"/>
                  </a:lnTo>
                  <a:lnTo>
                    <a:pt x="0" y="712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29200" y="20228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GOAL SET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14880" y="3902040"/>
            <a:ext cx="1409400" cy="1409760"/>
            <a:chOff x="3314880" y="3902040"/>
            <a:chExt cx="1409400" cy="1409760"/>
          </a:xfrm>
        </p:grpSpPr>
        <p:sp>
          <p:nvSpPr>
            <p:cNvPr id="148" name=""/>
            <p:cNvSpPr/>
            <p:nvPr/>
          </p:nvSpPr>
          <p:spPr>
            <a:xfrm>
              <a:off x="3314880" y="3902040"/>
              <a:ext cx="1307880" cy="1409760"/>
            </a:xfrm>
            <a:custGeom>
              <a:avLst/>
              <a:gdLst/>
              <a:ahLst/>
              <a:rect l="l" t="t" r="r" b="b"/>
              <a:pathLst>
                <a:path w="824" h="888">
                  <a:moveTo>
                    <a:pt x="0" y="592"/>
                  </a:moveTo>
                  <a:lnTo>
                    <a:pt x="96" y="680"/>
                  </a:lnTo>
                  <a:lnTo>
                    <a:pt x="216" y="744"/>
                  </a:lnTo>
                  <a:lnTo>
                    <a:pt x="344" y="800"/>
                  </a:lnTo>
                  <a:lnTo>
                    <a:pt x="480" y="832"/>
                  </a:lnTo>
                  <a:lnTo>
                    <a:pt x="704" y="880"/>
                  </a:lnTo>
                  <a:lnTo>
                    <a:pt x="800" y="888"/>
                  </a:lnTo>
                  <a:lnTo>
                    <a:pt x="824" y="48"/>
                  </a:lnTo>
                  <a:lnTo>
                    <a:pt x="624" y="0"/>
                  </a:lnTo>
                  <a:lnTo>
                    <a:pt x="640" y="72"/>
                  </a:lnTo>
                  <a:lnTo>
                    <a:pt x="648" y="80"/>
                  </a:lnTo>
                  <a:lnTo>
                    <a:pt x="496" y="8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4384440"/>
              <a:ext cx="1218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AUTHENTIC PROCESS &amp; 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362320" y="3200400"/>
            <a:ext cx="1892160" cy="1727280"/>
            <a:chOff x="2362320" y="3200400"/>
            <a:chExt cx="1892160" cy="1727280"/>
          </a:xfrm>
        </p:grpSpPr>
        <p:sp>
          <p:nvSpPr>
            <p:cNvPr id="151" name=""/>
            <p:cNvSpPr/>
            <p:nvPr/>
          </p:nvSpPr>
          <p:spPr>
            <a:xfrm>
              <a:off x="2362320" y="3200400"/>
              <a:ext cx="1892160" cy="1727280"/>
            </a:xfrm>
            <a:custGeom>
              <a:avLst/>
              <a:gdLst/>
              <a:ahLst/>
              <a:rect l="l" t="t" r="r" b="b"/>
              <a:pathLst>
                <a:path w="1192" h="1088">
                  <a:moveTo>
                    <a:pt x="440" y="1088"/>
                  </a:moveTo>
                  <a:lnTo>
                    <a:pt x="1096" y="392"/>
                  </a:lnTo>
                  <a:lnTo>
                    <a:pt x="1192" y="464"/>
                  </a:lnTo>
                  <a:lnTo>
                    <a:pt x="1136" y="184"/>
                  </a:lnTo>
                  <a:lnTo>
                    <a:pt x="928" y="0"/>
                  </a:lnTo>
                  <a:lnTo>
                    <a:pt x="936" y="120"/>
                  </a:lnTo>
                  <a:lnTo>
                    <a:pt x="0" y="288"/>
                  </a:lnTo>
                  <a:lnTo>
                    <a:pt x="96" y="552"/>
                  </a:lnTo>
                  <a:lnTo>
                    <a:pt x="136" y="648"/>
                  </a:lnTo>
                  <a:lnTo>
                    <a:pt x="168" y="728"/>
                  </a:lnTo>
                  <a:lnTo>
                    <a:pt x="272" y="880"/>
                  </a:lnTo>
                  <a:lnTo>
                    <a:pt x="440" y="1088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25680" y="361980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CLEAR SUCCESS CRITER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438280" y="2209680"/>
            <a:ext cx="1600200" cy="1295280"/>
            <a:chOff x="2438280" y="2209680"/>
            <a:chExt cx="1600200" cy="1295280"/>
          </a:xfrm>
        </p:grpSpPr>
        <p:sp>
          <p:nvSpPr>
            <p:cNvPr id="154" name=""/>
            <p:cNvSpPr/>
            <p:nvPr/>
          </p:nvSpPr>
          <p:spPr>
            <a:xfrm>
              <a:off x="2540160" y="2209680"/>
              <a:ext cx="1409400" cy="1295280"/>
            </a:xfrm>
            <a:custGeom>
              <a:avLst/>
              <a:gdLst/>
              <a:ahLst/>
              <a:rect l="l" t="t" r="r" b="b"/>
              <a:pathLst>
                <a:path w="888" h="816">
                  <a:moveTo>
                    <a:pt x="16" y="816"/>
                  </a:moveTo>
                  <a:lnTo>
                    <a:pt x="0" y="688"/>
                  </a:lnTo>
                  <a:lnTo>
                    <a:pt x="8" y="552"/>
                  </a:lnTo>
                  <a:lnTo>
                    <a:pt x="32" y="416"/>
                  </a:lnTo>
                  <a:lnTo>
                    <a:pt x="64" y="288"/>
                  </a:lnTo>
                  <a:lnTo>
                    <a:pt x="136" y="80"/>
                  </a:lnTo>
                  <a:lnTo>
                    <a:pt x="168" y="0"/>
                  </a:lnTo>
                  <a:lnTo>
                    <a:pt x="888" y="408"/>
                  </a:lnTo>
                  <a:lnTo>
                    <a:pt x="856" y="560"/>
                  </a:lnTo>
                  <a:lnTo>
                    <a:pt x="856" y="600"/>
                  </a:lnTo>
                  <a:lnTo>
                    <a:pt x="800" y="552"/>
                  </a:lnTo>
                  <a:lnTo>
                    <a:pt x="800" y="536"/>
                  </a:lnTo>
                  <a:lnTo>
                    <a:pt x="784" y="704"/>
                  </a:lnTo>
                  <a:lnTo>
                    <a:pt x="16" y="816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2720880"/>
              <a:ext cx="1600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SELF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7800" y="2225520"/>
            <a:ext cx="1600200" cy="1346400"/>
            <a:chOff x="5257800" y="2225520"/>
            <a:chExt cx="1600200" cy="1346400"/>
          </a:xfrm>
        </p:grpSpPr>
        <p:sp>
          <p:nvSpPr>
            <p:cNvPr id="157" name=""/>
            <p:cNvSpPr/>
            <p:nvPr/>
          </p:nvSpPr>
          <p:spPr>
            <a:xfrm>
              <a:off x="5283360" y="2225520"/>
              <a:ext cx="1434960" cy="1346400"/>
            </a:xfrm>
            <a:custGeom>
              <a:avLst/>
              <a:gdLst/>
              <a:ahLst/>
              <a:rect l="l" t="t" r="r" b="b"/>
              <a:pathLst>
                <a:path w="904" h="848">
                  <a:moveTo>
                    <a:pt x="872" y="848"/>
                  </a:moveTo>
                  <a:lnTo>
                    <a:pt x="896" y="720"/>
                  </a:lnTo>
                  <a:lnTo>
                    <a:pt x="904" y="584"/>
                  </a:lnTo>
                  <a:lnTo>
                    <a:pt x="880" y="440"/>
                  </a:lnTo>
                  <a:lnTo>
                    <a:pt x="840" y="304"/>
                  </a:lnTo>
                  <a:lnTo>
                    <a:pt x="760" y="88"/>
                  </a:lnTo>
                  <a:lnTo>
                    <a:pt x="720" y="0"/>
                  </a:lnTo>
                  <a:lnTo>
                    <a:pt x="0" y="424"/>
                  </a:lnTo>
                  <a:lnTo>
                    <a:pt x="32" y="560"/>
                  </a:lnTo>
                  <a:lnTo>
                    <a:pt x="40" y="584"/>
                  </a:lnTo>
                  <a:lnTo>
                    <a:pt x="112" y="536"/>
                  </a:lnTo>
                  <a:lnTo>
                    <a:pt x="120" y="696"/>
                  </a:lnTo>
                  <a:lnTo>
                    <a:pt x="872" y="848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26319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SHARED </a:t>
              </a:r>
              <a:r>
                <a:rPr b="1" lang="en-AU" sz="1200" spc="-1" strike="noStrike">
                  <a:solidFill>
                    <a:srgbClr val="0033cc"/>
                  </a:solidFill>
                  <a:latin typeface="Arial Narrow"/>
                </a:rPr>
                <a:t>UNDERSTAN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78440" y="3203640"/>
            <a:ext cx="1879560" cy="1778040"/>
            <a:chOff x="4978440" y="3203640"/>
            <a:chExt cx="1879560" cy="1778040"/>
          </a:xfrm>
        </p:grpSpPr>
        <p:sp>
          <p:nvSpPr>
            <p:cNvPr id="160" name=""/>
            <p:cNvSpPr/>
            <p:nvPr/>
          </p:nvSpPr>
          <p:spPr>
            <a:xfrm>
              <a:off x="4978440" y="3203640"/>
              <a:ext cx="1879560" cy="1778040"/>
            </a:xfrm>
            <a:custGeom>
              <a:avLst/>
              <a:gdLst/>
              <a:ahLst/>
              <a:rect l="l" t="t" r="r" b="b"/>
              <a:pathLst>
                <a:path w="1184" h="1120">
                  <a:moveTo>
                    <a:pt x="1184" y="336"/>
                  </a:moveTo>
                  <a:lnTo>
                    <a:pt x="256" y="120"/>
                  </a:lnTo>
                  <a:lnTo>
                    <a:pt x="264" y="0"/>
                  </a:lnTo>
                  <a:lnTo>
                    <a:pt x="56" y="184"/>
                  </a:lnTo>
                  <a:lnTo>
                    <a:pt x="0" y="464"/>
                  </a:lnTo>
                  <a:lnTo>
                    <a:pt x="96" y="392"/>
                  </a:lnTo>
                  <a:lnTo>
                    <a:pt x="712" y="1120"/>
                  </a:lnTo>
                  <a:lnTo>
                    <a:pt x="896" y="904"/>
                  </a:lnTo>
                  <a:lnTo>
                    <a:pt x="1000" y="752"/>
                  </a:lnTo>
                  <a:lnTo>
                    <a:pt x="1088" y="584"/>
                  </a:lnTo>
                  <a:lnTo>
                    <a:pt x="1184" y="336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699000"/>
              <a:ext cx="144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PARENTAL INVOLV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48320" y="3889440"/>
            <a:ext cx="1371600" cy="1422360"/>
            <a:chOff x="4648320" y="3889440"/>
            <a:chExt cx="1371600" cy="1422360"/>
          </a:xfrm>
        </p:grpSpPr>
        <p:sp>
          <p:nvSpPr>
            <p:cNvPr id="163" name=""/>
            <p:cNvSpPr/>
            <p:nvPr/>
          </p:nvSpPr>
          <p:spPr>
            <a:xfrm>
              <a:off x="4660920" y="3889440"/>
              <a:ext cx="1231920" cy="1422360"/>
            </a:xfrm>
            <a:custGeom>
              <a:avLst/>
              <a:gdLst/>
              <a:ahLst/>
              <a:rect l="l" t="t" r="r" b="b"/>
              <a:pathLst>
                <a:path w="776" h="896">
                  <a:moveTo>
                    <a:pt x="776" y="608"/>
                  </a:moveTo>
                  <a:lnTo>
                    <a:pt x="736" y="648"/>
                  </a:lnTo>
                  <a:lnTo>
                    <a:pt x="680" y="688"/>
                  </a:lnTo>
                  <a:lnTo>
                    <a:pt x="568" y="752"/>
                  </a:lnTo>
                  <a:lnTo>
                    <a:pt x="440" y="800"/>
                  </a:lnTo>
                  <a:lnTo>
                    <a:pt x="320" y="840"/>
                  </a:lnTo>
                  <a:lnTo>
                    <a:pt x="112" y="880"/>
                  </a:lnTo>
                  <a:lnTo>
                    <a:pt x="24" y="896"/>
                  </a:lnTo>
                  <a:lnTo>
                    <a:pt x="0" y="56"/>
                  </a:lnTo>
                  <a:lnTo>
                    <a:pt x="152" y="16"/>
                  </a:lnTo>
                  <a:lnTo>
                    <a:pt x="176" y="0"/>
                  </a:lnTo>
                  <a:lnTo>
                    <a:pt x="160" y="80"/>
                  </a:lnTo>
                  <a:lnTo>
                    <a:pt x="152" y="88"/>
                  </a:lnTo>
                  <a:lnTo>
                    <a:pt x="304" y="16"/>
                  </a:lnTo>
                  <a:lnTo>
                    <a:pt x="776" y="608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8320" y="45370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 Narrow"/>
                </a:rPr>
                <a:t>STUDENT LED</a:t>
              </a: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 CONFERE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057400" y="0"/>
            <a:ext cx="4863960" cy="1780920"/>
            <a:chOff x="2057400" y="0"/>
            <a:chExt cx="4863960" cy="1780920"/>
          </a:xfrm>
        </p:grpSpPr>
        <p:sp>
          <p:nvSpPr>
            <p:cNvPr id="166" name=""/>
            <p:cNvSpPr/>
            <p:nvPr/>
          </p:nvSpPr>
          <p:spPr>
            <a:xfrm>
              <a:off x="2057400" y="333360"/>
              <a:ext cx="4863960" cy="1447560"/>
            </a:xfrm>
            <a:custGeom>
              <a:avLst/>
              <a:gdLst/>
              <a:ahLst/>
              <a:rect l="l" t="t" r="r" b="b"/>
              <a:pathLst>
                <a:path w="3064" h="912">
                  <a:moveTo>
                    <a:pt x="2768" y="688"/>
                  </a:moveTo>
                  <a:lnTo>
                    <a:pt x="2720" y="648"/>
                  </a:lnTo>
                  <a:lnTo>
                    <a:pt x="2560" y="496"/>
                  </a:lnTo>
                  <a:lnTo>
                    <a:pt x="2464" y="432"/>
                  </a:lnTo>
                  <a:lnTo>
                    <a:pt x="2368" y="376"/>
                  </a:lnTo>
                  <a:lnTo>
                    <a:pt x="2168" y="280"/>
                  </a:lnTo>
                  <a:lnTo>
                    <a:pt x="1960" y="216"/>
                  </a:lnTo>
                  <a:lnTo>
                    <a:pt x="1848" y="192"/>
                  </a:lnTo>
                  <a:lnTo>
                    <a:pt x="1744" y="184"/>
                  </a:lnTo>
                  <a:lnTo>
                    <a:pt x="1512" y="176"/>
                  </a:lnTo>
                  <a:lnTo>
                    <a:pt x="1288" y="208"/>
                  </a:lnTo>
                  <a:lnTo>
                    <a:pt x="1064" y="272"/>
                  </a:lnTo>
                  <a:lnTo>
                    <a:pt x="952" y="312"/>
                  </a:lnTo>
                  <a:lnTo>
                    <a:pt x="856" y="360"/>
                  </a:lnTo>
                  <a:lnTo>
                    <a:pt x="664" y="480"/>
                  </a:lnTo>
                  <a:lnTo>
                    <a:pt x="496" y="624"/>
                  </a:lnTo>
                  <a:lnTo>
                    <a:pt x="352" y="792"/>
                  </a:lnTo>
                  <a:lnTo>
                    <a:pt x="320" y="840"/>
                  </a:lnTo>
                  <a:lnTo>
                    <a:pt x="464" y="912"/>
                  </a:lnTo>
                  <a:lnTo>
                    <a:pt x="192" y="896"/>
                  </a:lnTo>
                  <a:lnTo>
                    <a:pt x="0" y="664"/>
                  </a:lnTo>
                  <a:lnTo>
                    <a:pt x="168" y="744"/>
                  </a:lnTo>
                  <a:lnTo>
                    <a:pt x="208" y="688"/>
                  </a:lnTo>
                  <a:lnTo>
                    <a:pt x="368" y="504"/>
                  </a:lnTo>
                  <a:lnTo>
                    <a:pt x="552" y="344"/>
                  </a:lnTo>
                  <a:lnTo>
                    <a:pt x="768" y="208"/>
                  </a:lnTo>
                  <a:lnTo>
                    <a:pt x="880" y="152"/>
                  </a:lnTo>
                  <a:lnTo>
                    <a:pt x="1000" y="104"/>
                  </a:lnTo>
                  <a:lnTo>
                    <a:pt x="1128" y="64"/>
                  </a:lnTo>
                  <a:lnTo>
                    <a:pt x="1256" y="32"/>
                  </a:lnTo>
                  <a:lnTo>
                    <a:pt x="1512" y="0"/>
                  </a:lnTo>
                  <a:lnTo>
                    <a:pt x="1640" y="0"/>
                  </a:lnTo>
                  <a:lnTo>
                    <a:pt x="1760" y="0"/>
                  </a:lnTo>
                  <a:lnTo>
                    <a:pt x="2008" y="48"/>
                  </a:lnTo>
                  <a:lnTo>
                    <a:pt x="2248" y="120"/>
                  </a:lnTo>
                  <a:lnTo>
                    <a:pt x="2472" y="224"/>
                  </a:lnTo>
                  <a:lnTo>
                    <a:pt x="2680" y="368"/>
                  </a:lnTo>
                  <a:lnTo>
                    <a:pt x="2776" y="448"/>
                  </a:lnTo>
                  <a:lnTo>
                    <a:pt x="2864" y="536"/>
                  </a:lnTo>
                  <a:lnTo>
                    <a:pt x="2904" y="576"/>
                  </a:lnTo>
                  <a:lnTo>
                    <a:pt x="3064" y="464"/>
                  </a:lnTo>
                  <a:lnTo>
                    <a:pt x="2912" y="736"/>
                  </a:lnTo>
                  <a:lnTo>
                    <a:pt x="2648" y="792"/>
                  </a:lnTo>
                  <a:lnTo>
                    <a:pt x="2768" y="688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0760" y="0"/>
              <a:ext cx="48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ffffff"/>
                  </a:solidFill>
                  <a:latin typeface="Comic Sans MS"/>
                </a:rPr>
                <a:t>METACOGNITIVE DEVELOP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965840" y="1752480"/>
            <a:ext cx="4178160" cy="4368960"/>
            <a:chOff x="4965840" y="1752480"/>
            <a:chExt cx="4178160" cy="4368960"/>
          </a:xfrm>
        </p:grpSpPr>
        <p:sp>
          <p:nvSpPr>
            <p:cNvPr id="169" name=""/>
            <p:cNvSpPr/>
            <p:nvPr/>
          </p:nvSpPr>
          <p:spPr>
            <a:xfrm>
              <a:off x="4965840" y="1752480"/>
              <a:ext cx="2425680" cy="4368960"/>
            </a:xfrm>
            <a:custGeom>
              <a:avLst/>
              <a:gdLst/>
              <a:ahLst/>
              <a:rect l="l" t="t" r="r" b="b"/>
              <a:pathLst>
                <a:path w="1528" h="2752">
                  <a:moveTo>
                    <a:pt x="112" y="2384"/>
                  </a:moveTo>
                  <a:lnTo>
                    <a:pt x="168" y="2368"/>
                  </a:lnTo>
                  <a:lnTo>
                    <a:pt x="272" y="2336"/>
                  </a:lnTo>
                  <a:lnTo>
                    <a:pt x="376" y="2296"/>
                  </a:lnTo>
                  <a:lnTo>
                    <a:pt x="576" y="2200"/>
                  </a:lnTo>
                  <a:lnTo>
                    <a:pt x="760" y="2072"/>
                  </a:lnTo>
                  <a:lnTo>
                    <a:pt x="920" y="1920"/>
                  </a:lnTo>
                  <a:lnTo>
                    <a:pt x="1064" y="1752"/>
                  </a:lnTo>
                  <a:lnTo>
                    <a:pt x="1176" y="1560"/>
                  </a:lnTo>
                  <a:lnTo>
                    <a:pt x="1264" y="1344"/>
                  </a:lnTo>
                  <a:lnTo>
                    <a:pt x="1328" y="1120"/>
                  </a:lnTo>
                  <a:lnTo>
                    <a:pt x="1352" y="888"/>
                  </a:lnTo>
                  <a:lnTo>
                    <a:pt x="1336" y="664"/>
                  </a:lnTo>
                  <a:lnTo>
                    <a:pt x="1296" y="448"/>
                  </a:lnTo>
                  <a:lnTo>
                    <a:pt x="1232" y="248"/>
                  </a:lnTo>
                  <a:lnTo>
                    <a:pt x="1208" y="192"/>
                  </a:lnTo>
                  <a:lnTo>
                    <a:pt x="1072" y="280"/>
                  </a:lnTo>
                  <a:lnTo>
                    <a:pt x="1216" y="48"/>
                  </a:lnTo>
                  <a:lnTo>
                    <a:pt x="1520" y="0"/>
                  </a:lnTo>
                  <a:lnTo>
                    <a:pt x="1368" y="112"/>
                  </a:lnTo>
                  <a:lnTo>
                    <a:pt x="1392" y="168"/>
                  </a:lnTo>
                  <a:lnTo>
                    <a:pt x="1472" y="400"/>
                  </a:lnTo>
                  <a:lnTo>
                    <a:pt x="1512" y="640"/>
                  </a:lnTo>
                  <a:lnTo>
                    <a:pt x="1528" y="768"/>
                  </a:lnTo>
                  <a:lnTo>
                    <a:pt x="1528" y="896"/>
                  </a:lnTo>
                  <a:lnTo>
                    <a:pt x="1504" y="1152"/>
                  </a:lnTo>
                  <a:lnTo>
                    <a:pt x="1432" y="1408"/>
                  </a:lnTo>
                  <a:lnTo>
                    <a:pt x="1336" y="1640"/>
                  </a:lnTo>
                  <a:lnTo>
                    <a:pt x="1208" y="1856"/>
                  </a:lnTo>
                  <a:lnTo>
                    <a:pt x="1128" y="1960"/>
                  </a:lnTo>
                  <a:lnTo>
                    <a:pt x="1048" y="2048"/>
                  </a:lnTo>
                  <a:lnTo>
                    <a:pt x="960" y="2136"/>
                  </a:lnTo>
                  <a:lnTo>
                    <a:pt x="864" y="2216"/>
                  </a:lnTo>
                  <a:lnTo>
                    <a:pt x="656" y="2360"/>
                  </a:lnTo>
                  <a:lnTo>
                    <a:pt x="432" y="2472"/>
                  </a:lnTo>
                  <a:lnTo>
                    <a:pt x="200" y="2544"/>
                  </a:lnTo>
                  <a:lnTo>
                    <a:pt x="136" y="2560"/>
                  </a:lnTo>
                  <a:lnTo>
                    <a:pt x="152" y="2752"/>
                  </a:lnTo>
                  <a:lnTo>
                    <a:pt x="0" y="2488"/>
                  </a:lnTo>
                  <a:lnTo>
                    <a:pt x="80" y="2224"/>
                  </a:lnTo>
                  <a:lnTo>
                    <a:pt x="112" y="2384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81680" y="4572000"/>
              <a:ext cx="2362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ffffff"/>
                  </a:solidFill>
                  <a:latin typeface="Comic Sans MS"/>
                </a:rPr>
                <a:t>DEVELOPMENT OF HOME-SCHOOL  LINK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2133720"/>
            <a:ext cx="4356000" cy="4076640"/>
            <a:chOff x="228600" y="2133720"/>
            <a:chExt cx="4356000" cy="4076640"/>
          </a:xfrm>
        </p:grpSpPr>
        <p:sp>
          <p:nvSpPr>
            <p:cNvPr id="172" name=""/>
            <p:cNvSpPr/>
            <p:nvPr/>
          </p:nvSpPr>
          <p:spPr>
            <a:xfrm>
              <a:off x="1714680" y="2133720"/>
              <a:ext cx="2869920" cy="4076640"/>
            </a:xfrm>
            <a:custGeom>
              <a:avLst/>
              <a:gdLst/>
              <a:ahLst/>
              <a:rect l="l" t="t" r="r" b="b"/>
              <a:pathLst>
                <a:path w="1808" h="2568">
                  <a:moveTo>
                    <a:pt x="336" y="152"/>
                  </a:moveTo>
                  <a:lnTo>
                    <a:pt x="320" y="208"/>
                  </a:lnTo>
                  <a:lnTo>
                    <a:pt x="280" y="432"/>
                  </a:lnTo>
                  <a:lnTo>
                    <a:pt x="264" y="648"/>
                  </a:lnTo>
                  <a:lnTo>
                    <a:pt x="280" y="872"/>
                  </a:lnTo>
                  <a:lnTo>
                    <a:pt x="328" y="1088"/>
                  </a:lnTo>
                  <a:lnTo>
                    <a:pt x="408" y="1296"/>
                  </a:lnTo>
                  <a:lnTo>
                    <a:pt x="456" y="1392"/>
                  </a:lnTo>
                  <a:lnTo>
                    <a:pt x="520" y="1496"/>
                  </a:lnTo>
                  <a:lnTo>
                    <a:pt x="656" y="1672"/>
                  </a:lnTo>
                  <a:lnTo>
                    <a:pt x="736" y="1760"/>
                  </a:lnTo>
                  <a:lnTo>
                    <a:pt x="824" y="1840"/>
                  </a:lnTo>
                  <a:lnTo>
                    <a:pt x="1008" y="1976"/>
                  </a:lnTo>
                  <a:lnTo>
                    <a:pt x="1208" y="2072"/>
                  </a:lnTo>
                  <a:lnTo>
                    <a:pt x="1312" y="2120"/>
                  </a:lnTo>
                  <a:lnTo>
                    <a:pt x="1416" y="2152"/>
                  </a:lnTo>
                  <a:lnTo>
                    <a:pt x="1632" y="2192"/>
                  </a:lnTo>
                  <a:lnTo>
                    <a:pt x="1688" y="2200"/>
                  </a:lnTo>
                  <a:lnTo>
                    <a:pt x="1680" y="2040"/>
                  </a:lnTo>
                  <a:lnTo>
                    <a:pt x="1808" y="2280"/>
                  </a:lnTo>
                  <a:lnTo>
                    <a:pt x="1696" y="2568"/>
                  </a:lnTo>
                  <a:lnTo>
                    <a:pt x="1680" y="2376"/>
                  </a:lnTo>
                  <a:lnTo>
                    <a:pt x="1616" y="2368"/>
                  </a:lnTo>
                  <a:lnTo>
                    <a:pt x="1376" y="2320"/>
                  </a:lnTo>
                  <a:lnTo>
                    <a:pt x="1144" y="2240"/>
                  </a:lnTo>
                  <a:lnTo>
                    <a:pt x="1032" y="2192"/>
                  </a:lnTo>
                  <a:lnTo>
                    <a:pt x="920" y="2128"/>
                  </a:lnTo>
                  <a:lnTo>
                    <a:pt x="712" y="1976"/>
                  </a:lnTo>
                  <a:lnTo>
                    <a:pt x="608" y="1888"/>
                  </a:lnTo>
                  <a:lnTo>
                    <a:pt x="520" y="1792"/>
                  </a:lnTo>
                  <a:lnTo>
                    <a:pt x="440" y="1688"/>
                  </a:lnTo>
                  <a:lnTo>
                    <a:pt x="368" y="1584"/>
                  </a:lnTo>
                  <a:lnTo>
                    <a:pt x="304" y="1480"/>
                  </a:lnTo>
                  <a:lnTo>
                    <a:pt x="248" y="1368"/>
                  </a:lnTo>
                  <a:lnTo>
                    <a:pt x="160" y="1128"/>
                  </a:lnTo>
                  <a:lnTo>
                    <a:pt x="104" y="888"/>
                  </a:lnTo>
                  <a:lnTo>
                    <a:pt x="88" y="768"/>
                  </a:lnTo>
                  <a:lnTo>
                    <a:pt x="88" y="640"/>
                  </a:lnTo>
                  <a:lnTo>
                    <a:pt x="104" y="392"/>
                  </a:lnTo>
                  <a:lnTo>
                    <a:pt x="152" y="144"/>
                  </a:lnTo>
                  <a:lnTo>
                    <a:pt x="168" y="88"/>
                  </a:lnTo>
                  <a:lnTo>
                    <a:pt x="0" y="8"/>
                  </a:lnTo>
                  <a:lnTo>
                    <a:pt x="304" y="0"/>
                  </a:lnTo>
                  <a:lnTo>
                    <a:pt x="488" y="208"/>
                  </a:lnTo>
                  <a:lnTo>
                    <a:pt x="336" y="152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4724280"/>
              <a:ext cx="2133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ffffff"/>
                  </a:solidFill>
                  <a:latin typeface="Comic Sans MS"/>
                </a:rPr>
                <a:t>ASSESSMENT TO IMPROVE LEAR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09880" y="2847960"/>
            <a:ext cx="1676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ffff00"/>
                </a:solidFill>
                <a:latin typeface="Times New Roman"/>
              </a:rPr>
              <a:t>DEVELOPMENT OF INDEPENDENT LEARNE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2743200"/>
            <a:ext cx="73152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ww.ian.fox.co.nz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8080" y="25146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ere to n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19051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-Portfolio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28600" y="10666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move from this...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57200" y="3733920"/>
            <a:ext cx="39243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o this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343400" y="4952880"/>
            <a:ext cx="44197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WW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90720" y="609480"/>
            <a:ext cx="70866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3962520"/>
            <a:ext cx="64008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alk to the person beside you an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iscuss what you think makes a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 differen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228600"/>
            <a:ext cx="3073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868400"/>
            <a:ext cx="4114800" cy="36064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ditional portfolio processes include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ll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fl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j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elebr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1868400"/>
            <a:ext cx="4114800" cy="36064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ding technology allows enhancement through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ch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nking/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ory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llabor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19520" y="762120"/>
            <a:ext cx="4190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ww.electronicportfolios.org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685800"/>
            <a:ext cx="3073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057400"/>
            <a:ext cx="8534520" cy="30186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n ePortfolio uses technologies as the container, allowing teacher/students to collect and organise artifacts in many media types, (audio, video, graphic, text); and using hyperlinks to organise the material, connecting evidence to appropriate outcomes, goals or standard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685800"/>
            <a:ext cx="3073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520" y="1905120"/>
            <a:ext cx="4228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vidence based.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3048120"/>
            <a:ext cx="8381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vidence = Artifacts + Reflection(Rationale) 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+ Validation(Feedback)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5120" y="1143000"/>
            <a:ext cx="5257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is it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urpose?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905120" y="3962520"/>
            <a:ext cx="56386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 what ways do you think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 ePortfolio can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enefit student learning?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410080" y="5791320"/>
            <a:ext cx="167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3049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s -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3886200"/>
            <a:ext cx="7772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Personal Space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for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Learning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95288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an F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il Mitc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nva Shea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6324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cklands Beach Intermed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0880" y="838080"/>
            <a:ext cx="746784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s help students tell their stories : -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590920"/>
            <a:ext cx="8305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L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re than text docu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i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focus 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elp students to mak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uppor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LTIME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4721400" cy="6102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5867280"/>
            <a:ext cx="518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nglish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8080" y="1447920"/>
            <a:ext cx="7086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tud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8600" y="304920"/>
            <a:ext cx="3048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905120" y="8380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igital Story Telling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1600200"/>
            <a:ext cx="7467840" cy="4597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ttp: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//electronicportfolio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.org/digistory/howto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14600"/>
            <a:ext cx="822960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 digital story is a digital video clip, told in the author's own voice, illustrated mostly with still images, with an optional music track added for emotional effect. Rhetorically, a digital story is a personal narrative that may show the author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identity: strengths, weaknesses, achievements, disappointments, learning experiences, passions, and hopes for the future; in other words: reflec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Macintosh HD:Users:ianfox:Desktop:eportfolio:e-portfolios example:autobioIP.mov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utobiography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6664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nd Grad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Macintosh HD:Users:ianfox:Desktop:eportfolio:e-portfolios example:second grade.mov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4968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7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5th Grad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1" name="Macintosh HD:Users:ianfox:Desktop:eportfolio:e-portfolios example:fifth &amp; sixth.mov" descr=""/>
          <p:cNvPicPr/>
          <p:nvPr/>
        </p:nvPicPr>
        <p:blipFill>
          <a:blip r:embed="rId2"/>
          <a:stretch/>
        </p:blipFill>
        <p:spPr>
          <a:xfrm>
            <a:off x="1905120" y="118116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2068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8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7th Grad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3" name="Macintosh HD:Users:ianfox:Desktop:eportfolio:e-portfolios example:middle school.mov" descr=""/>
          <p:cNvPicPr/>
          <p:nvPr/>
        </p:nvPicPr>
        <p:blipFill>
          <a:blip r:embed="rId2"/>
          <a:stretch/>
        </p:blipFill>
        <p:spPr>
          <a:xfrm>
            <a:off x="1981080" y="95256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35335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9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5448240"/>
            <a:ext cx="8915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sion with action can change the world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5880" y="304920"/>
            <a:ext cx="2362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oel Barker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5240" y="2400480"/>
            <a:ext cx="8673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ction without vision  just passes the time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23880"/>
            <a:ext cx="883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sion without action is merely a dream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Macintosh HD:Users:ianfox:Desktop:latest:09Kerryscience.mo" descr=""/>
          <p:cNvPicPr/>
          <p:nvPr/>
        </p:nvPicPr>
        <p:blipFill>
          <a:blip r:embed="rId2"/>
          <a:stretch/>
        </p:blipFill>
        <p:spPr>
          <a:xfrm>
            <a:off x="1981080" y="457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0" y="5715000"/>
            <a:ext cx="44956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cience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3266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0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1447920"/>
            <a:ext cx="7772400" cy="2286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opperplate Gothic Bold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3623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2004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114800"/>
            <a:ext cx="7772400" cy="200088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ve I done w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fficulties did I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could I do next time to improv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22520" y="3675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828800"/>
            <a:ext cx="73152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tudent knows more than the teacher about what and how he has learned-even if he knows less about what is tau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Copperplate Gothic Bold"/>
              </a:rPr>
              <a:t>Peter elb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Copperplate Gothic Bold"/>
              </a:rPr>
              <a:t>Embracing contraries:explorations in learning and teaching (198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acintosh HD:Users:ianfox:Desktop:05cheyennesciencevideo.mov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5410080" cy="5410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276720" y="5867280"/>
            <a:ext cx="3289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cience reflection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acintosh HD:Users:ianfox:Movies:Rich tasks:War Rich Task:Tennile.wav" descr=""/>
          <p:cNvPicPr/>
          <p:nvPr/>
        </p:nvPicPr>
        <p:blipFill>
          <a:blip r:embed="rId2"/>
          <a:stretch/>
        </p:blipFill>
        <p:spPr>
          <a:xfrm>
            <a:off x="4113360" y="29732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6" name="Macintosh HD:Users:ianfox:Movies:Rich tasks:War Rich Task:Sad suicide" descr=""/>
          <p:cNvPicPr/>
          <p:nvPr/>
        </p:nvPicPr>
        <p:blipFill>
          <a:blip r:embed="rId3"/>
          <a:stretch/>
        </p:blipFill>
        <p:spPr>
          <a:xfrm>
            <a:off x="5486400" y="3048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7" name="Macintosh HD:Users:ianfox:Movies:Rich tasks:War Rich Task:The Pointlessness of War.mp3" descr=""/>
          <p:cNvPicPr/>
          <p:nvPr/>
        </p:nvPicPr>
        <p:blipFill>
          <a:blip r:embed="rId4"/>
          <a:stretch/>
        </p:blipFill>
        <p:spPr>
          <a:xfrm>
            <a:off x="685800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3505320" y="152280"/>
            <a:ext cx="4645080" cy="6194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04920" y="4648320"/>
            <a:ext cx="7848360" cy="83808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480" y="4876920"/>
            <a:ext cx="71884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"Do we need war to maintain peace?"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14400"/>
            <a:ext cx="4114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riginal music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mpositions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5867280"/>
            <a:ext cx="518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usic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36286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6286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2883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123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28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4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9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295280" y="1143000"/>
            <a:ext cx="6477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are some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f the thing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you could put i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 ePortfolio?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 rot="21048600">
            <a:off x="3504960" y="1828440"/>
            <a:ext cx="28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ik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 rot="21551400">
            <a:off x="609480" y="228600"/>
            <a:ext cx="731520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ersonal Learning Enviro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 rot="241200">
            <a:off x="234720" y="1398600"/>
            <a:ext cx="395604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eb 2 too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 rot="21564600">
            <a:off x="152280" y="1980720"/>
            <a:ext cx="2819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logg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 rot="21307200">
            <a:off x="297000" y="327960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od c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2280" y="4114800"/>
            <a:ext cx="4191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Refle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 rot="21307200">
            <a:off x="4876560" y="3733560"/>
            <a:ext cx="28191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Go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 rot="20782200">
            <a:off x="363600" y="4971600"/>
            <a:ext cx="4419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vidence of lear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 rot="20607600">
            <a:off x="4952880" y="20574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chieve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21048600">
            <a:off x="5562360" y="4419720"/>
            <a:ext cx="281916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in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880" y="617220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howc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 rot="244800">
            <a:off x="5181120" y="121896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igital pi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 rot="480000">
            <a:off x="838080" y="25146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ent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 rot="21267000">
            <a:off x="4419360" y="3048120"/>
            <a:ext cx="396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ersonal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 rot="225600">
            <a:off x="4114440" y="5181120"/>
            <a:ext cx="487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eacher feedba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 rot="21307200">
            <a:off x="5409720" y="6095880"/>
            <a:ext cx="28195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Video cl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4920" y="254160"/>
            <a:ext cx="830556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0880" y="1522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 ePortfolio can help students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make the move from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280" y="1447920"/>
            <a:ext cx="31719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trinsic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4120" y="4724280"/>
            <a:ext cx="31716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trinsic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520" y="5791320"/>
            <a:ext cx="37335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Motivation.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590920"/>
            <a:ext cx="2361960" cy="1828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182880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 much of wh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appens in schoo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s top dow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24280" y="165240"/>
            <a:ext cx="4205520" cy="66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09480" y="304920"/>
            <a:ext cx="6934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question for teachers to ask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160020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Is this ePortfolio about my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eaching, supported by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tudent evidence?'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00400" y="3581280"/>
            <a:ext cx="9525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r..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441972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Is this ePortfolio about student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learning, supported by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my guidance?"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335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Vision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91120" y="46483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Action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3001320" y="2171160"/>
            <a:ext cx="2531880" cy="2439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990720" y="730080"/>
            <a:ext cx="73152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438280" y="-6480"/>
            <a:ext cx="6864480" cy="68644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2438640" cy="6095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-portfolio content pathways at BB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Verdana"/>
                <a:hlinkClick r:id="rId2"/>
              </a:rPr>
              <a:t>Learning Management Syste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693396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99172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this mean for the teach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ange in thinking and pract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things diffe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to know what is availab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to spend time upskil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ly use the too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iting and invigora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war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-Portfolios for teaching and learn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-Portfolios for teaching and learn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this mean for the stud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ag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line with life exper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ers for personal learning sty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ers for personal vo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idates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nects glob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opportun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ent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 vehicle for lifelo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 rich resource of learning for the fu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arn new skills and literac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2057400"/>
            <a:ext cx="2743200" cy="35053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530440" cy="3200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eorge Bernard Sh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362320" y="304920"/>
            <a:ext cx="5562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me people see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ings as they are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d ask;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971800" y="3048120"/>
            <a:ext cx="6172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thers see things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s they could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e and ask;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553080" y="19051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Why?"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419720" y="556272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Why not?"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191120"/>
            <a:ext cx="8381880" cy="1904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8381880" cy="1447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600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ving students learn a specific set body of content in a subject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4956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tronger focus on the skills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ies required to facilitate independent life-long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4572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66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shift in emphasis away from:-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66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3352680"/>
            <a:ext cx="35053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66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owards:-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66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371600" y="3808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NZ Curriculum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895480"/>
            <a:ext cx="7619760" cy="278532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Students will need 21</a:t>
            </a:r>
            <a:r>
              <a:rPr b="0" lang="en-AU" sz="32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 century skills to enable them to be </a:t>
            </a:r>
            <a:r>
              <a:rPr b="0" i="1" lang="en-AU" sz="3200" spc="-1" strike="noStrike">
                <a:solidFill>
                  <a:srgbClr val="ffff00"/>
                </a:solidFill>
                <a:latin typeface="Times New Roman"/>
              </a:rPr>
              <a:t>“confident, connected, actively involved, lifelong learners” </a:t>
            </a: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(Ministry of Education, 2007, p.7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81080" y="1828800"/>
            <a:ext cx="4267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Vision statement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762120"/>
            <a:ext cx="7543800" cy="5790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1600" y="990720"/>
            <a:ext cx="3886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arc Prensk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5280" y="1447920"/>
            <a:ext cx="6324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Author - "Don't Bother Me Mom, I'm Learning.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95280" y="1905120"/>
            <a:ext cx="670572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Schools are stuck in the 20th Century.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tudents have rushed into the 21st Century.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can schools catch up and provide students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ith a relevant education?'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4038480"/>
            <a:ext cx="6705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Outside school they are fully engaged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y their 21st Century digital lives. 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f educators want to have relevance in 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is century, it is crucial that we find 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ays to engage students in school."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04920" y="1219320"/>
            <a:ext cx="830556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Engage students in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their 21st century learning!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03:23:33Z</dcterms:created>
  <dc:creator>Apple Education</dc:creator>
  <dc:description/>
  <dc:language>en-US</dc:language>
  <cp:lastModifiedBy>Apple Education</cp:lastModifiedBy>
  <dcterms:modified xsi:type="dcterms:W3CDTF">2008-02-18T19:24:20Z</dcterms:modified>
  <cp:revision>313</cp:revision>
  <dc:subject/>
  <dc:title>PowerPoint Presentation</dc:title>
</cp:coreProperties>
</file>